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B98-1E12-4FB3-8B0D-0CEB9903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132-2D15-40B1-9661-86B13FB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8BF-530F-4433-98BB-71356F8A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007-D7C4-447B-BA9E-7EB3165A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26D-5E55-41B4-92C8-842F610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1C2-927A-4C10-B03F-EF4DE24A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6A2-CDC0-417A-9D40-5BD89800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89F-74DC-4193-AAF8-B5F9630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D18-385F-4B58-919A-8A9B3061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75D-2E4B-4321-8405-59C6526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C87-33B9-4BEE-8297-108E14F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D72-C0CA-47D3-846C-0A47C79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D52C-7B2D-408A-B13C-B9519CC6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cc0000"/>
                </a:solidFill>
                <a:latin typeface="Arial"/>
              </a:rPr>
              <a:t>La culture des méristèm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- Définition d’un méristè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- Principe de la culture des méristè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- Techniqu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4-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5- Avantages et limi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il faudra une étape complémentaire pour enraciner les futures plantes avant qu'elles soient acclimatées en serre pour finalem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vir de pied mère pour le prélèvement de boutur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réalablement il faudra vérifier que les plantes obtenues sont bien indemnes de virus, en leur faisant subir un test immunolog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immunosorbent assay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uvant l'absence totale de particules vira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-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multipliant le méristème prélevé au sommet d'une plante ou dans le bourgeon axillaire, le plus souvent indemne de maladi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ourra très rapidement obtenir de nombreuses plantes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utes semblab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u point de vue génétique e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ébarrassées de mala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ont elles étaient affecté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 donc possible de  reconstituer des clones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ndemnes de maladies à partir de pieds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ères malades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l existe plus de 50 espèces végétales qui ont été ainsi assainies c'est le cas de la pomme de terre , la canne à sucre , de dahlia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686800" cy="12952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  et lim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lture de méristèmes permet le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uvetage des variété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enacées d</a:t>
            </a: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disparitio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 très viros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e concerne essentiellement l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antes à reproduction par voie végétativ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turage, marcottage, etc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tte voie favorise la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ansmission des viru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 la descendance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s 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dahlia, le chrysanthème, la pomme de terre, l'artichaut, le fraisier, framboisier, et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3200400" cy="22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8120" y="1600200"/>
            <a:ext cx="2819160" cy="24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3038400" cy="213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ar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ysanth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66294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rysantemum macrucap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960" y="1143000"/>
            <a:ext cx="8915400" cy="498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lantes produites sont saines</a:t>
            </a: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 virus, champignons et bactéries et répondent aux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es phytosanitair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'échanges internationaux de plus en plus draconienn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plantes assainies ont u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gueur accru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des qualités de floraison et de fructification restaur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obtient d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iétés conform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 la variété d'origi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que l'on peu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ier en grande quantit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production est homogè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’un méristème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éristèmes sont des tissus en expansion continue conférant à la plante une organogenèse permanente chez les végétaux ligneux 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représentent 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etits massifs de cellules indifférenci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conservent la capacité de se diviser activ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zones méristèmatiques gardent jusqu'à leur mort le caractère juvéni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jouent un rôle capital dans le développement végétal puisqu'elle édifient tous les orga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antes obtenues sont indemnes de virus mai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 sont pas devenues résistantes aux viru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peuvent être recontaminées via des insectes si des mesures de pro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axie ne sont pas pris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94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LIMASS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CORNUET not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'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bsence de virus dans les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abacs vir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2266920" cy="33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724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ant à profit ces travaux, G. MOREL et C. MARTIN à l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N.R.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Versailles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égénèrent des plantes entières sa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ahlia, variété "le Rêve" indemnes de virus à part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lture de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ants infectés par trois virus diffé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105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ême manière ils sauveront la variété de pomme de terre "la Belle de Fontenay" en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echnique de la culture des méristè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ture de méristèmes se dérou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anière suivan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boutures contenant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ourgeon végéta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rélevées sur les variétés à assain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explants so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érilis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sséq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érilement,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 hotte à flux lami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us une loupe binoculaire, afin d'extraire le méristème de l'apex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ôme apical sans feuil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qui mesure moins de 0,4 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Ce méristème est rapidement déposé dans un tube de culture contenant un g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Progressivement, les cellules vont se diviser, des feuilles vont se former, au bout d'un mois cette pousse devra être repiquée sur un nouveau milieu pour parfaire sa croissa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un mois plus tard il faudra multiplier ou cloner les pousses afin d'obtenir le nombre voulu de plant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5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